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9E5-0D7A-446E-BE96-5BA7162F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32D-810C-4A9D-B56A-F3B19367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32A-467D-4997-9747-37A48368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0B3-4C18-49CD-ABA0-4B216E03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254E-7352-4A4B-8B39-2D6206DE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1E1E-A1D8-48C1-8822-7201873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1DD3-A0B5-4877-8FAC-1BDBC322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89BF-4326-45CE-AE56-57CF8936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C4CA-FF2E-4C57-899E-280224B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26BB-21EF-4197-AC3B-872DF81A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FEED-B417-4DF4-BA01-B30A6B30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165-0D0B-437C-BCCF-75C86DA7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1380-15E0-4F0C-B48F-FE89E218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D01A-37EE-4480-9DAB-BD382DF0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19E6-AE3D-4DA7-A250-41E47A10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D307-E613-45E9-91D9-148D200B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242E-DF3F-49C7-A017-377EE6C5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ECF-3E23-4D94-A88F-69A279BA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A55-6F08-443E-B9A8-C80F616B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BB7-F11B-41E2-B0AE-05D98512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08F-00E2-43D0-BA14-E6719591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105-AE43-4B07-A375-EAB1B4BD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FAD-5B5F-466F-AD45-CE9A68E4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173-4B89-4A1F-8087-AB71EB3E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3ADE-91A4-4ECA-8775-2495BA13EC1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C2AB-DC25-4F6E-8E11-F040C05EF02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5640" y="1557360"/>
            <a:ext cx="626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ff"/>
                </a:solidFill>
                <a:latin typeface="Arial"/>
                <a:ea typeface="华文新魏"/>
              </a:rPr>
              <a:t>  </a:t>
            </a:r>
            <a:r>
              <a:rPr b="0" lang="zh-CN" sz="6600" spc="-1" strike="noStrike">
                <a:solidFill>
                  <a:srgbClr val="9900ff"/>
                </a:solidFill>
                <a:latin typeface="Arial"/>
                <a:ea typeface="华文新魏"/>
              </a:rPr>
              <a:t>树立信心，</a:t>
            </a:r>
            <a:br>
              <a:rPr sz="6600"/>
            </a:br>
            <a:br>
              <a:rPr sz="2400"/>
            </a:br>
            <a:r>
              <a:rPr b="0" lang="zh-CN" sz="6600" spc="-1" strike="noStrike">
                <a:solidFill>
                  <a:srgbClr val="9900ff"/>
                </a:solidFill>
                <a:latin typeface="Arial"/>
                <a:ea typeface="华文新魏"/>
              </a:rPr>
              <a:t>我的未来不是梦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56240" y="4836960"/>
            <a:ext cx="41860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主题班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18288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理想是人奋斗的目标，是人生活的希望，没有理想的青春，就像没有太阳的早晨。没有理想的人，就像一台没安马达的机器。对我们青年人来说，理想就更重要了，因为我们是祖国的未来，如果我们胸无大志，那我们的国家未来就没有希望了 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95640" y="134136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仿宋_GB2312"/>
              </a:rPr>
              <a:t>讨论：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仿宋_GB2312"/>
              <a:ea typeface="仿宋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仿宋_GB2312"/>
              </a:rPr>
              <a:t>《二十年后的我们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仿宋_GB2312"/>
              <a:ea typeface="仿宋_GB2312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4419720" cy="2540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9920" y="2971800"/>
            <a:ext cx="312408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华文新魏"/>
              </a:rPr>
              <a:t>我相信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华文新魏"/>
              </a:rPr>
              <a:t>我能行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71080" y="2276640"/>
            <a:ext cx="1277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醒醒醒，行行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40320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不是像我在太阳下低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着汗水默默辛苦的工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不是像我就算受了冷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也不放弃自己想要的生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不是像我整天忙着追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追求一种意想不到的温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不是像我曾经茫然失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次一次徘徊在十字街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为我不在乎别人怎么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从来没有忘记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自己的承诺对爱的执著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知道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认真的过每一分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心跟着希望在动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认真的过每一分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心跟着希望在动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跟着希望在动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32000" y="692280"/>
            <a:ext cx="393372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我的未来不是梦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8766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全体同学那一张洁白的纸，写上自己的心愿、理想，飞向折好放在自己的心里，成为自己永远的秘密……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429000" y="685800"/>
            <a:ext cx="27432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放飞梦想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67280" y="4869000"/>
            <a:ext cx="16765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班主任寄予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带上你的梦想，带上你的志向，迈开你的脚步，捎上我为你的祝福，走得更加坚实，走得更远、更远。。。。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4653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相信你能行，一定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981080" y="2362320"/>
            <a:ext cx="655344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中宋"/>
              </a:rPr>
              <a:t>班会到此结束！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畅谈你的梦想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理想有多大，舞台就有多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理想的人才能飞得更高、更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插上理想的翅膀，有实际行动作为动力，用智慧作为牵引力，用一生的执著作为幸福的源泉，飞翔、飞翔。。。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华文行楷"/>
              </a:rPr>
              <a:t>名人的故事和警句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志当存高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72360" y="1052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2666880"/>
            <a:ext cx="8001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最困难之时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就是离成功不远之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352680"/>
            <a:ext cx="777240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世界上最快乐的事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莫过于为理想而奋斗。</a:t>
            </a: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4495680"/>
            <a:ext cx="7772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过去属于死神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未来属于自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5181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没有志向的青年，就像断了线的风筝，只会在空中东摇西晃，最后必然丧失前程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仿宋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  <a:ea typeface="仿宋_GB2312"/>
              </a:rPr>
              <a:t>你们为什么读书？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让自己更加坚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让我更有素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让世界更加美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285264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83664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想一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谁而读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306864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也许，你说，为了中华崛起而读书，太不现实；也许，你说，为了父母的期盼而读书，太博大；也许，你说，为了自己的的前途命运而读书，太自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9900ff"/>
                </a:solidFill>
                <a:latin typeface="Arial"/>
              </a:rPr>
              <a:t>我说，为了明天的太阳比今天更加灿烂，为了今天的我们比明天更加成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们怎样学习？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：目的：我要学习，知道我来学校是干什么？从每一个成绩较好的同学身上，你能看到哪些共同特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：态度：认真对待每一件事，每一节课，每一次作业、每一次导案、每一次考试，特别是每一次考试题做到百分百全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：坚持：学习是积累的过程，厚积薄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四：信心：信心来源于我们不断的深入探索，善于探索的人才是成功的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立志摘取明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40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歌德巴赫猜想一直被看作数学王冠上的明珠。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00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多年前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有不少科学家试图征服它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并因此耗费了巨大的精力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却都没有成功。有位中国少年上中学时就暗暗立志摘取这颗明珠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他把它当作自己的事业和理想。他拼命积累知识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奋力演算难题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草稿纸装了一麻袋又一麻袋。最后他终于用自己的智慧和理想的合力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移动了数学群山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摘取了数学王冠上这一璀璨的明珠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发明了以他的姓氏的定理。请问这位少年是谁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0640" y="228240"/>
            <a:ext cx="546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自信——成功的选择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仿宋_GB2312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仿宋_GB2312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308720" y="549360"/>
            <a:ext cx="8305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5712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ey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不愿意活的像一个问号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东张西望找不到自己的跑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现在我为梦想超速在奔跑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心在燃烧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来吧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唱出感觉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ig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出味道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yeah——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ey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再叹气就快变一个句号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难道不想看大家都为你尖叫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03640" y="1600200"/>
            <a:ext cx="4026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其实你也会像明星一样酷让人心跳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来吧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手舞足蹈别怕人笑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yeah——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舞台我自己建造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让全世界看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剧本我自己写好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信自己永远是个主角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魅力我自己创造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乎每个人意料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未来我自己照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个明天把我拥抱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   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1197000"/>
            <a:ext cx="807732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835280" y="620640"/>
            <a:ext cx="20192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的舞台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1" name=""/>
          <p:cNvSpPr/>
          <p:nvPr/>
        </p:nvSpPr>
        <p:spPr>
          <a:xfrm>
            <a:off x="7885080" y="5950080"/>
            <a:ext cx="574560" cy="57456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88760" y="2205000"/>
            <a:ext cx="11552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自己的舞台靠自己搭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s5u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17:10Z</dcterms:modified>
  <cp:revision>57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